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82A-8661-42BA-B797-5DB04088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177-4793-4419-AC6B-BCB03CD9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C6F-C8AE-45D3-84E5-82276E04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965-C89D-42DE-A674-3FB24AA4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370-22E4-4822-A034-A2EDDD3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D68-FD9F-43ED-ADC1-FB18C1A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72A-9C30-41EF-90C1-5257EB3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A8E-A20C-49C6-BE32-C685CCF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61E-1F1D-4F17-831C-7C0977B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8F5-4E38-4C46-AC33-831A3CA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2C7-369B-4D00-A0A9-C463911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74E-5C09-436E-BCB6-5262248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BD19-E25A-4692-8C7D-4ACE6B74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J’aime les mathématiqu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228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56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123 =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regardes le numéro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après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Si le numéro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égal ou plus grand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que 5, tu chang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Si le numéro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plus petit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, tu ne changes pa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 u="sng">
                <a:solidFill>
                  <a:srgbClr val="000000"/>
                </a:solidFill>
                <a:uFillTx/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753 = 8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753 = 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753 = 8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7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4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 76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8 8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764 38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764 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76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764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8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Arrondis à la centa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A-) 4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73 = 4 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B-) 8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7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34 = 8 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Arrondir- Exerc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A-) Arrondis à la dizaine prè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5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6 9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5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84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31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3048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4:12:41Z</dcterms:created>
  <dc:creator>nbdoe</dc:creator>
  <dc:description/>
  <dc:language>en-US</dc:language>
  <cp:lastModifiedBy>nbdoe</cp:lastModifiedBy>
  <dcterms:modified xsi:type="dcterms:W3CDTF">2008-09-16T14:31:20Z</dcterms:modified>
  <cp:revision>2</cp:revision>
  <dc:subject/>
  <dc:title>Arrondir</dc:title>
</cp:coreProperties>
</file>